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122-FB1D-45CF-AC71-73C65B79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095-ADA7-4DE8-A308-5709C03C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E93-21E5-42E7-BC26-AE49C1E8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1C6-1E66-4F02-A4E1-1A0AE4F7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BAD-ED14-4DAC-B664-A90E636B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3AE-D030-4CFA-A202-D4350F0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A59-F238-4FA2-AE63-A732B90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404-6487-4689-962F-A98B6262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D5D-A549-4918-901B-96AB454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05B-C08A-4CA3-B591-48116A8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501-A6E7-4ACB-AB6B-CC66C0F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1C0-16DF-438F-9333-F7144FC9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94F-0A9D-41AA-B588-96F4A83479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-507960" y="1166760"/>
            <a:ext cx="8420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parajita"/>
                <a:ea typeface="Aparajita"/>
              </a:rPr>
              <a:t>HR Consul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8160" y="1125360"/>
            <a:ext cx="2028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60520" y="103320"/>
            <a:ext cx="8785080" cy="62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57200" y="190440"/>
            <a:ext cx="8991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36600" y="44280"/>
            <a:ext cx="2095560" cy="150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2649600" y="24300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ZEN HR CONSULTING PRIVAT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720880" y="1208160"/>
            <a:ext cx="57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rial Black"/>
              </a:rPr>
              <a:t>Recruitment  I  HR Solutions I Business Consulta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28520" y="1557360"/>
            <a:ext cx="9577440" cy="144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2720880" y="2060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Kevin Ch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2720880" y="2637000"/>
            <a:ext cx="52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Business Developme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3 Casuarina Walk , Singapore 5740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Mobile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: (65) 97921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Email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: kchua@zenhr-consult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Web: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www.zenhr-consult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6600" y="44280"/>
            <a:ext cx="2095560" cy="15098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600880" y="2133720"/>
            <a:ext cx="1008000" cy="503280"/>
            <a:chOff x="5600880" y="2133720"/>
            <a:chExt cx="1008000" cy="503280"/>
          </a:xfrm>
        </p:grpSpPr>
        <p:pic>
          <p:nvPicPr>
            <p:cNvPr id="77" name="Picture 3" descr=""/>
            <p:cNvPicPr/>
            <p:nvPr/>
          </p:nvPicPr>
          <p:blipFill>
            <a:blip r:embed="rId2"/>
            <a:stretch/>
          </p:blipFill>
          <p:spPr>
            <a:xfrm>
              <a:off x="5921640" y="2133720"/>
              <a:ext cx="366480" cy="48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3"/>
            <a:stretch/>
          </p:blipFill>
          <p:spPr>
            <a:xfrm>
              <a:off x="6242400" y="2188080"/>
              <a:ext cx="3664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"/>
            <p:cNvPicPr/>
            <p:nvPr/>
          </p:nvPicPr>
          <p:blipFill>
            <a:blip r:embed="rId4"/>
            <a:stretch/>
          </p:blipFill>
          <p:spPr>
            <a:xfrm>
              <a:off x="5600880" y="2133720"/>
              <a:ext cx="3664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Box 8"/>
          <p:cNvSpPr/>
          <p:nvPr/>
        </p:nvSpPr>
        <p:spPr>
          <a:xfrm>
            <a:off x="2649600" y="24300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ZEN HR CONSULTING PRIVAT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720880" y="1208160"/>
            <a:ext cx="57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rial Black"/>
              </a:rPr>
              <a:t>Recruitment  I  Business Consultancy  I  HR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44520" y="1557360"/>
            <a:ext cx="9361440" cy="144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649600" y="2340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Kevin Ch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5800" y="190440"/>
            <a:ext cx="2097360" cy="1509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49240" y="4365720"/>
            <a:ext cx="19526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28520" y="115920"/>
            <a:ext cx="1800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5"/>
          <p:cNvGrpSpPr/>
          <p:nvPr/>
        </p:nvGrpSpPr>
        <p:grpSpPr>
          <a:xfrm>
            <a:off x="200160" y="2276640"/>
            <a:ext cx="5700600" cy="1368360"/>
            <a:chOff x="200160" y="2276640"/>
            <a:chExt cx="5700600" cy="1368360"/>
          </a:xfrm>
        </p:grpSpPr>
        <p:pic>
          <p:nvPicPr>
            <p:cNvPr id="88" name="Picture 2" descr=""/>
            <p:cNvPicPr/>
            <p:nvPr/>
          </p:nvPicPr>
          <p:blipFill>
            <a:blip r:embed="rId2"/>
            <a:stretch/>
          </p:blipFill>
          <p:spPr>
            <a:xfrm>
              <a:off x="200160" y="2276640"/>
              <a:ext cx="179820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TextBox 4" descr=""/>
            <p:cNvPicPr/>
            <p:nvPr/>
          </p:nvPicPr>
          <p:blipFill>
            <a:blip r:embed="rId3"/>
            <a:stretch/>
          </p:blipFill>
          <p:spPr>
            <a:xfrm>
              <a:off x="1942560" y="2676240"/>
              <a:ext cx="3958200" cy="40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2" descr=""/>
          <p:cNvPicPr/>
          <p:nvPr/>
        </p:nvPicPr>
        <p:blipFill>
          <a:blip r:embed="rId4"/>
          <a:stretch/>
        </p:blipFill>
        <p:spPr>
          <a:xfrm>
            <a:off x="200160" y="4005360"/>
            <a:ext cx="1749240" cy="143964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7" descr=""/>
          <p:cNvPicPr/>
          <p:nvPr/>
        </p:nvPicPr>
        <p:blipFill>
          <a:blip r:embed="rId5"/>
          <a:stretch/>
        </p:blipFill>
        <p:spPr>
          <a:xfrm>
            <a:off x="1932120" y="4468680"/>
            <a:ext cx="396216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200160" y="333360"/>
            <a:ext cx="5700600" cy="1366920"/>
            <a:chOff x="200160" y="333360"/>
            <a:chExt cx="5700600" cy="1366920"/>
          </a:xfrm>
        </p:grpSpPr>
        <p:pic>
          <p:nvPicPr>
            <p:cNvPr id="93" name="Picture 2" descr=""/>
            <p:cNvPicPr/>
            <p:nvPr/>
          </p:nvPicPr>
          <p:blipFill>
            <a:blip r:embed="rId1"/>
            <a:stretch/>
          </p:blipFill>
          <p:spPr>
            <a:xfrm>
              <a:off x="200160" y="333360"/>
              <a:ext cx="179820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TextBox 4" descr=""/>
            <p:cNvPicPr/>
            <p:nvPr/>
          </p:nvPicPr>
          <p:blipFill>
            <a:blip r:embed="rId2"/>
            <a:stretch/>
          </p:blipFill>
          <p:spPr>
            <a:xfrm>
              <a:off x="1942560" y="731520"/>
              <a:ext cx="3958200" cy="40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Zen Image 2.jpg"/>
          <p:cNvPicPr/>
          <p:nvPr/>
        </p:nvPicPr>
        <p:blipFill>
          <a:blip r:embed="rId1"/>
          <a:stretch/>
        </p:blipFill>
        <p:spPr>
          <a:xfrm>
            <a:off x="271440" y="260280"/>
            <a:ext cx="92059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prouting v1.jpg"/>
          <p:cNvPicPr/>
          <p:nvPr/>
        </p:nvPicPr>
        <p:blipFill>
          <a:blip r:embed="rId1"/>
          <a:stretch/>
        </p:blipFill>
        <p:spPr>
          <a:xfrm>
            <a:off x="4484520" y="1125360"/>
            <a:ext cx="4213440" cy="36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Sproutling v 3.1.jpg"/>
          <p:cNvPicPr/>
          <p:nvPr/>
        </p:nvPicPr>
        <p:blipFill>
          <a:blip r:embed="rId2"/>
          <a:stretch/>
        </p:blipFill>
        <p:spPr>
          <a:xfrm>
            <a:off x="2144880" y="1844640"/>
            <a:ext cx="18079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6"/>
          <p:cNvGrpSpPr/>
          <p:nvPr/>
        </p:nvGrpSpPr>
        <p:grpSpPr>
          <a:xfrm>
            <a:off x="2690640" y="4149720"/>
            <a:ext cx="1014480" cy="719280"/>
            <a:chOff x="2690640" y="4149720"/>
            <a:chExt cx="1014480" cy="719280"/>
          </a:xfrm>
        </p:grpSpPr>
        <p:sp>
          <p:nvSpPr>
            <p:cNvPr id="47" name="Rectangle 3"/>
            <p:cNvSpPr/>
            <p:nvPr/>
          </p:nvSpPr>
          <p:spPr>
            <a:xfrm>
              <a:off x="2690640" y="4149720"/>
              <a:ext cx="1014480" cy="144360"/>
            </a:xfrm>
            <a:prstGeom prst="rect">
              <a:avLst/>
            </a:prstGeom>
            <a:solidFill>
              <a:srgbClr val="223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690640" y="4437000"/>
              <a:ext cx="1014480" cy="144360"/>
            </a:xfrm>
            <a:prstGeom prst="rect">
              <a:avLst/>
            </a:prstGeom>
            <a:solidFill>
              <a:srgbClr val="223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2690640" y="4724640"/>
              <a:ext cx="1014480" cy="144360"/>
            </a:xfrm>
            <a:prstGeom prst="rect">
              <a:avLst/>
            </a:prstGeom>
            <a:solidFill>
              <a:srgbClr val="223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8760" y="549360"/>
            <a:ext cx="920592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3079800" y="341964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Tai Le"/>
              </a:rPr>
              <a:t>HR Consulting Private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152880" y="3789360"/>
            <a:ext cx="4824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28760" y="549360"/>
            <a:ext cx="9205920" cy="5327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081240" y="341964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Tai Le"/>
              </a:rPr>
              <a:t>HR Consulting Private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Sproutling v 3.1.jpg"/>
          <p:cNvPicPr/>
          <p:nvPr/>
        </p:nvPicPr>
        <p:blipFill>
          <a:blip r:embed="rId2"/>
          <a:stretch/>
        </p:blipFill>
        <p:spPr>
          <a:xfrm>
            <a:off x="3008160" y="3718080"/>
            <a:ext cx="432144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0" y="189000"/>
            <a:ext cx="9906120" cy="6553080"/>
            <a:chOff x="0" y="189000"/>
            <a:chExt cx="9906120" cy="655308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90612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4"/>
            <p:cNvSpPr/>
            <p:nvPr/>
          </p:nvSpPr>
          <p:spPr>
            <a:xfrm>
              <a:off x="2908080" y="3453840"/>
              <a:ext cx="42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Microsoft Tai Le"/>
                </a:rPr>
                <a:t>HR Consulting Private Limi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3" descr="Sproutling v 3.1.jpg"/>
            <p:cNvPicPr/>
            <p:nvPr/>
          </p:nvPicPr>
          <p:blipFill>
            <a:blip r:embed="rId2"/>
            <a:stretch/>
          </p:blipFill>
          <p:spPr>
            <a:xfrm>
              <a:off x="4867920" y="4112640"/>
              <a:ext cx="977400" cy="120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2"/>
          <p:cNvGrpSpPr/>
          <p:nvPr/>
        </p:nvGrpSpPr>
        <p:grpSpPr>
          <a:xfrm>
            <a:off x="0" y="189000"/>
            <a:ext cx="9906120" cy="6553080"/>
            <a:chOff x="0" y="189000"/>
            <a:chExt cx="9906120" cy="6553080"/>
          </a:xfrm>
        </p:grpSpPr>
        <p:pic>
          <p:nvPicPr>
            <p:cNvPr id="6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90612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4"/>
            <p:cNvSpPr/>
            <p:nvPr/>
          </p:nvSpPr>
          <p:spPr>
            <a:xfrm>
              <a:off x="2908080" y="3357000"/>
              <a:ext cx="4260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300" spc="-1" strike="noStrike">
                  <a:solidFill>
                    <a:srgbClr val="000000"/>
                  </a:solidFill>
                  <a:latin typeface="Microsoft Tai Le"/>
                </a:rPr>
                <a:t>HR Consulting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3" descr="Sproutling v 3.1.jpg"/>
            <p:cNvPicPr/>
            <p:nvPr/>
          </p:nvPicPr>
          <p:blipFill>
            <a:blip r:embed="rId2"/>
            <a:stretch/>
          </p:blipFill>
          <p:spPr>
            <a:xfrm>
              <a:off x="4867920" y="4112640"/>
              <a:ext cx="977400" cy="120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200240" y="1195560"/>
            <a:ext cx="750564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6T15:36:01Z</dcterms:created>
  <dc:creator>Kevin</dc:creator>
  <dc:description/>
  <dc:language>en-US</dc:language>
  <cp:lastModifiedBy>Kevin</cp:lastModifiedBy>
  <dcterms:modified xsi:type="dcterms:W3CDTF">2015-11-12T16:51:35Z</dcterms:modified>
  <cp:revision>59</cp:revision>
  <dc:subject/>
  <dc:title>Slide 1</dc:title>
</cp:coreProperties>
</file>